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D74E-40A6-4B05-A16B-8B4F197E73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fera le total par corps de métier quand on aura le t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EEFC-3D81-4090-AADE-2AC9332A31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5FF8-DAE7-4C80-82C7-85E363EBD8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Verdana"/>
              </a:rPr>
              <a:t>Partant de ce constat et de la pertinence des approches pédagogiques actives et ludiques, Solthis a conçu en 2008 un jeu de cartes destiné à renforcer l’apprentissage de ces connaissances par les professionnels de santé impliqués dans la prise en charge médicale des personnes séroposi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bjectifs du jeu :Formations plus actives, Permet un apprentissage séquentiel, Permet de consolider l’acqui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pport technique pour les joueurs: sur la base des références internationales (expliquer un pe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ègles du jeu  (expliquer un pe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2D14-E107-45A9-A120-495F73C47F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81B1-1DE5-44C2-9D6C-647958123B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0B63-B07D-4E1A-850E-A561BA0CE4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eler le fait qu’ils ont souvent plus l’habitude d’apprendre par algorithme ou démarche systémique, que ce sont des adultes et qu’à ce titre, il faut appliquer des méthodes d’andragogie…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F075-E6F4-416B-88BA-670A3B4691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5850-49AD-4A98-8234-79DCD0B6A6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Voir en diapor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4437-9BDC-4BFD-9158-6068530C3D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949D-1D81-49E8-9C0D-286F61C133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983C-BB6E-4CBA-B7CF-C349E5495D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85A1-A482-49F7-9DFC-67C222C05A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EDA-0DFD-495E-9E8E-A8421F10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A6E-7FA3-4A70-97AD-352F8737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A83-7131-4375-94C6-C87E2002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0F9-127E-4CC1-AB62-A115034E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0D0-806C-4126-85AA-F302C94B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072-CBAA-4815-B0D3-96FF956F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745-D487-4B4A-900B-B34E19B6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648-D7E9-44E6-874A-DC3FAD3F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3B9-460F-4474-A26A-6B05A460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E89-4A3A-45E6-A123-AA250CF8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2D0-F93E-46B5-B6E8-60B2FA8C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445-0DE4-4BFB-99AB-452EED6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402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402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402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0387-2C02-4B7C-B2DD-33D168B3007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olider l’apprentis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es connaissances thérapeut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ur le bon usage des traitements AR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ar les professionnels de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à partir d’un jeu de carte innovant 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« La thérapeutique VIH en je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. Guillard, S. Ouvrard, M. Diallo, P. Autret,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. Déz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olthis, Paris &amp; Conak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fond-bandeau-haut-oral-1600-sansblanc"/>
          <p:cNvPicPr/>
          <p:nvPr/>
        </p:nvPicPr>
        <p:blipFill>
          <a:blip r:embed="rId1"/>
          <a:stretch/>
        </p:blipFill>
        <p:spPr>
          <a:xfrm>
            <a:off x="0" y="0"/>
            <a:ext cx="914400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d’utili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eliers de 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mpagnement in s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Utilisation du j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E:\Docs pro - En cours\2. Travail - En cours - Technique\CHANTIER Jeu de carte\21052010-IMG_1975.jpg"/>
          <p:cNvPicPr/>
          <p:nvPr/>
        </p:nvPicPr>
        <p:blipFill>
          <a:blip r:embed="rId2"/>
          <a:stretch/>
        </p:blipFill>
        <p:spPr>
          <a:xfrm>
            <a:off x="1042920" y="3405240"/>
            <a:ext cx="345780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solthis\Desktop\Jeux de carte\IMG_0267.JPG"/>
          <p:cNvPicPr/>
          <p:nvPr/>
        </p:nvPicPr>
        <p:blipFill>
          <a:blip r:embed="rId3"/>
          <a:stretch/>
        </p:blipFill>
        <p:spPr>
          <a:xfrm>
            <a:off x="5219640" y="191628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E:\Docs pro - Admin\Com Solthis\Presentation de Solthis\carte-afrique-entiere+beningris.jpg"/>
          <p:cNvPicPr/>
          <p:nvPr/>
        </p:nvPicPr>
        <p:blipFill>
          <a:blip r:embed="rId1"/>
          <a:stretch/>
        </p:blipFill>
        <p:spPr>
          <a:xfrm>
            <a:off x="5148360" y="2062080"/>
            <a:ext cx="3730680" cy="3959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24000" y="1844280"/>
            <a:ext cx="8820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é entre 2009 et mars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gents de santé form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édecins: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armaciens et assistants: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médicaux: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res: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fond-bandeau-haut-oral-1600-2"/>
          <p:cNvPicPr/>
          <p:nvPr/>
        </p:nvPicPr>
        <p:blipFill>
          <a:blip r:embed="rId2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Résultats  </a:t>
            </a:r>
            <a:br>
              <a:rPr sz="4000"/>
            </a:b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Formations en sa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lipse 7"/>
          <p:cNvSpPr/>
          <p:nvPr/>
        </p:nvSpPr>
        <p:spPr>
          <a:xfrm>
            <a:off x="4932360" y="3716280"/>
            <a:ext cx="1079640" cy="433440"/>
          </a:xfrm>
          <a:prstGeom prst="ellipse">
            <a:avLst/>
          </a:prstGeom>
          <a:noFill/>
          <a:ln w="38160">
            <a:solidFill>
              <a:srgbClr val="b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llipse 8"/>
          <p:cNvSpPr/>
          <p:nvPr/>
        </p:nvSpPr>
        <p:spPr>
          <a:xfrm>
            <a:off x="6875640" y="2852640"/>
            <a:ext cx="865080" cy="432000"/>
          </a:xfrm>
          <a:prstGeom prst="ellipse">
            <a:avLst/>
          </a:prstGeom>
          <a:noFill/>
          <a:ln w="38160">
            <a:solidFill>
              <a:srgbClr val="b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9"/>
          <p:cNvSpPr/>
          <p:nvPr/>
        </p:nvSpPr>
        <p:spPr>
          <a:xfrm>
            <a:off x="5508720" y="2276640"/>
            <a:ext cx="1008000" cy="431640"/>
          </a:xfrm>
          <a:prstGeom prst="ellipse">
            <a:avLst/>
          </a:prstGeom>
          <a:noFill/>
          <a:ln w="38160">
            <a:solidFill>
              <a:srgbClr val="b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10"/>
          <p:cNvSpPr/>
          <p:nvPr/>
        </p:nvSpPr>
        <p:spPr>
          <a:xfrm>
            <a:off x="6875640" y="4221000"/>
            <a:ext cx="1152360" cy="576360"/>
          </a:xfrm>
          <a:prstGeom prst="ellipse">
            <a:avLst/>
          </a:prstGeom>
          <a:noFill/>
          <a:ln w="38160">
            <a:solidFill>
              <a:srgbClr val="b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3059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’est un moyen d’apprentissage intéressant: gain de temps et technique dyna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 participants sont concentrés sur le sujet car ils veulent ‘gagner’ la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émorisation aisée des  molécules déjà mises dans un contexte de pr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Résult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9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timent de maîtriser ‘enfin’ la thérapeutique ARV (‘j’ai compris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d enthousiasme par rapport au jeu de cartes (obtenir un exempl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éciation de la dynamique de groupe et de l’auto-apprentissage de façon ‘ludiqu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éciation de l’apprentissage séquentiel, permettant l’intégration des connaissances en plusieurs é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Résult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79280" y="176220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mélioration des connaissances et des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au cours des 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s des études de cas, des exercices, on observ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meilleure appropriation des schémas thérapeut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meilleur choix des trithérapies en fonction des critères et de l’état de santé des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Résult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SOLTHIS\Pictures\V7SYG2V7\2011-11-08 12 56 11.jpg"/>
          <p:cNvPicPr/>
          <p:nvPr/>
        </p:nvPicPr>
        <p:blipFill>
          <a:blip r:embed="rId2"/>
          <a:stretch/>
        </p:blipFill>
        <p:spPr>
          <a:xfrm>
            <a:off x="1835280" y="1773360"/>
            <a:ext cx="5616360" cy="45352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e 14"/>
          <p:cNvGrpSpPr/>
          <p:nvPr/>
        </p:nvGrpSpPr>
        <p:grpSpPr>
          <a:xfrm>
            <a:off x="0" y="4581360"/>
            <a:ext cx="6012000" cy="1191240"/>
            <a:chOff x="0" y="4581360"/>
            <a:chExt cx="6012000" cy="1191240"/>
          </a:xfrm>
        </p:grpSpPr>
        <p:cxnSp>
          <p:nvCxnSpPr>
            <p:cNvPr id="175" name="Connecteur droit avec flèche 7"/>
            <p:cNvCxnSpPr/>
            <p:nvPr/>
          </p:nvCxnSpPr>
          <p:spPr>
            <a:xfrm flipV="1">
              <a:off x="1763280" y="5373360"/>
              <a:ext cx="1801080" cy="7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76" name="Connecteur droit avec flèche 13"/>
            <p:cNvCxnSpPr/>
            <p:nvPr/>
          </p:nvCxnSpPr>
          <p:spPr>
            <a:xfrm flipV="1">
              <a:off x="1692000" y="4941360"/>
              <a:ext cx="288036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77" name="Connecteur droit avec flèche 15"/>
            <p:cNvCxnSpPr/>
            <p:nvPr/>
          </p:nvCxnSpPr>
          <p:spPr>
            <a:xfrm>
              <a:off x="1763280" y="5444640"/>
              <a:ext cx="424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78" name="ZoneTexte 19"/>
            <p:cNvSpPr/>
            <p:nvPr/>
          </p:nvSpPr>
          <p:spPr>
            <a:xfrm>
              <a:off x="0" y="4581360"/>
              <a:ext cx="19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62 cartes réparties en 6 catég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ZoneTexte 10"/>
          <p:cNvSpPr/>
          <p:nvPr/>
        </p:nvSpPr>
        <p:spPr>
          <a:xfrm>
            <a:off x="0" y="2349360"/>
            <a:ext cx="18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pport technique pour les jou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Connecteur droit avec flèche 12"/>
          <p:cNvCxnSpPr/>
          <p:nvPr/>
        </p:nvCxnSpPr>
        <p:spPr>
          <a:xfrm>
            <a:off x="1547280" y="314136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Connecteur droit avec flèche 18"/>
          <p:cNvCxnSpPr/>
          <p:nvPr/>
        </p:nvCxnSpPr>
        <p:spPr>
          <a:xfrm flipH="1">
            <a:off x="7019640" y="2923920"/>
            <a:ext cx="10087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ZoneTexte 20"/>
          <p:cNvSpPr/>
          <p:nvPr/>
        </p:nvSpPr>
        <p:spPr>
          <a:xfrm>
            <a:off x="7524720" y="22050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ègles du jeu pour les anim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Présentation du j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78920" y="1773000"/>
            <a:ext cx="866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cessité d’une évaluation: difficulté d’identifier le bénéfice d’une seule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jeu n’est pas encore adapté à la prise en charge pédia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jeu pourrait être adapté à l’apprentissage par le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autres jeux pourraient être développés pour l’apprentissage de connaissances compl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79280" y="177300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formateurs nation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participants de 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partenaires institutionnels de Solthis au Mali, au Niger, en Guinée, au Buru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semble des équipes Sol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Remercie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52280" y="6400800"/>
            <a:ext cx="899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Contact : contact@solthis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000" y="2133720"/>
            <a:ext cx="7559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40202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fficultés à maîtriser l’ensemble des connaissances liées aux molécules (noms, indications, posologies, modalités de prises, effets secondaires, etc.) et aux schémas thérapeutiques  suite à des formations cou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40202"/>
                </a:solidFill>
                <a:latin typeface="Arial"/>
              </a:rPr>
              <a:t>Problé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b40202"/>
                </a:solidFill>
                <a:latin typeface="Arial"/>
              </a:rPr>
              <a:t>Situation de pr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7"/>
          <p:cNvSpPr/>
          <p:nvPr/>
        </p:nvSpPr>
        <p:spPr>
          <a:xfrm>
            <a:off x="2556000" y="2133720"/>
            <a:ext cx="2376360" cy="12952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lécule A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9"/>
          <p:cNvSpPr/>
          <p:nvPr/>
        </p:nvSpPr>
        <p:spPr>
          <a:xfrm>
            <a:off x="5219640" y="2133720"/>
            <a:ext cx="2300400" cy="1357200"/>
          </a:xfrm>
          <a:prstGeom prst="ellipse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ritères de prise en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llipse 10"/>
          <p:cNvSpPr/>
          <p:nvPr/>
        </p:nvSpPr>
        <p:spPr>
          <a:xfrm>
            <a:off x="6227640" y="3716280"/>
            <a:ext cx="2513160" cy="10810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llipse 11"/>
          <p:cNvSpPr/>
          <p:nvPr/>
        </p:nvSpPr>
        <p:spPr>
          <a:xfrm>
            <a:off x="5219640" y="5013360"/>
            <a:ext cx="2448000" cy="121428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alités de 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12"/>
          <p:cNvSpPr/>
          <p:nvPr/>
        </p:nvSpPr>
        <p:spPr>
          <a:xfrm>
            <a:off x="2484360" y="5013360"/>
            <a:ext cx="2592360" cy="121428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ffets second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13"/>
          <p:cNvSpPr/>
          <p:nvPr/>
        </p:nvSpPr>
        <p:spPr>
          <a:xfrm>
            <a:off x="1332000" y="3645000"/>
            <a:ext cx="2298600" cy="128592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duite à t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Description des cartes: </a:t>
            </a:r>
            <a:br>
              <a:rPr sz="3200"/>
            </a:b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6 caté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e 16"/>
          <p:cNvGrpSpPr/>
          <p:nvPr/>
        </p:nvGrpSpPr>
        <p:grpSpPr>
          <a:xfrm>
            <a:off x="56520" y="1700280"/>
            <a:ext cx="4690440" cy="3612600"/>
            <a:chOff x="56520" y="1700280"/>
            <a:chExt cx="4690440" cy="3612600"/>
          </a:xfrm>
        </p:grpSpPr>
        <p:pic>
          <p:nvPicPr>
            <p:cNvPr id="73" name="Picture 10" descr=""/>
            <p:cNvPicPr/>
            <p:nvPr/>
          </p:nvPicPr>
          <p:blipFill>
            <a:blip r:embed="rId2"/>
            <a:stretch/>
          </p:blipFill>
          <p:spPr>
            <a:xfrm rot="19489800">
              <a:off x="539640" y="2827080"/>
              <a:ext cx="1668600" cy="22064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74" name="Picture 9" descr=""/>
            <p:cNvPicPr/>
            <p:nvPr/>
          </p:nvPicPr>
          <p:blipFill>
            <a:blip r:embed="rId3"/>
            <a:stretch/>
          </p:blipFill>
          <p:spPr>
            <a:xfrm>
              <a:off x="1593720" y="2657520"/>
              <a:ext cx="1681200" cy="21794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75" name="Picture 9" descr=""/>
            <p:cNvPicPr/>
            <p:nvPr/>
          </p:nvPicPr>
          <p:blipFill>
            <a:blip r:embed="rId4"/>
            <a:stretch/>
          </p:blipFill>
          <p:spPr>
            <a:xfrm rot="1168800">
              <a:off x="2736360" y="2854080"/>
              <a:ext cx="1690920" cy="22064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76" name="ZoneTexte 11"/>
            <p:cNvSpPr/>
            <p:nvPr/>
          </p:nvSpPr>
          <p:spPr>
            <a:xfrm>
              <a:off x="1276200" y="1700280"/>
              <a:ext cx="26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. Molécules AR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e 17"/>
          <p:cNvGrpSpPr/>
          <p:nvPr/>
        </p:nvGrpSpPr>
        <p:grpSpPr>
          <a:xfrm>
            <a:off x="4580280" y="1916280"/>
            <a:ext cx="5080680" cy="4402440"/>
            <a:chOff x="4580280" y="1916280"/>
            <a:chExt cx="5080680" cy="4402440"/>
          </a:xfrm>
        </p:grpSpPr>
        <p:pic>
          <p:nvPicPr>
            <p:cNvPr id="78" name="Picture 11" descr=""/>
            <p:cNvPicPr/>
            <p:nvPr/>
          </p:nvPicPr>
          <p:blipFill>
            <a:blip r:embed="rId5"/>
            <a:stretch/>
          </p:blipFill>
          <p:spPr>
            <a:xfrm rot="20476200">
              <a:off x="4932000" y="3228840"/>
              <a:ext cx="1697040" cy="24717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79" name="Picture 12" descr=""/>
            <p:cNvPicPr/>
            <p:nvPr/>
          </p:nvPicPr>
          <p:blipFill>
            <a:blip r:embed="rId6"/>
            <a:stretch/>
          </p:blipFill>
          <p:spPr>
            <a:xfrm>
              <a:off x="6064200" y="3146400"/>
              <a:ext cx="1747800" cy="24987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80" name="Picture 13" descr=""/>
            <p:cNvPicPr/>
            <p:nvPr/>
          </p:nvPicPr>
          <p:blipFill>
            <a:blip r:embed="rId7"/>
            <a:stretch/>
          </p:blipFill>
          <p:spPr>
            <a:xfrm rot="1795800">
              <a:off x="7380360" y="3505320"/>
              <a:ext cx="1763640" cy="25430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81" name="ZoneTexte 15"/>
            <p:cNvSpPr/>
            <p:nvPr/>
          </p:nvSpPr>
          <p:spPr>
            <a:xfrm>
              <a:off x="5255640" y="1916280"/>
              <a:ext cx="323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2. Critères de choix d’un protoco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e 18"/>
          <p:cNvGrpSpPr/>
          <p:nvPr/>
        </p:nvGrpSpPr>
        <p:grpSpPr>
          <a:xfrm>
            <a:off x="52560" y="2852640"/>
            <a:ext cx="5049720" cy="3938040"/>
            <a:chOff x="52560" y="2852640"/>
            <a:chExt cx="5049720" cy="3938040"/>
          </a:xfrm>
        </p:grpSpPr>
        <p:pic>
          <p:nvPicPr>
            <p:cNvPr id="83" name="Picture 2" descr=""/>
            <p:cNvPicPr/>
            <p:nvPr/>
          </p:nvPicPr>
          <p:blipFill>
            <a:blip r:embed="rId8"/>
            <a:stretch/>
          </p:blipFill>
          <p:spPr>
            <a:xfrm rot="20494200">
              <a:off x="395280" y="3926880"/>
              <a:ext cx="1731960" cy="24498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84" name="Picture 3" descr=""/>
            <p:cNvPicPr/>
            <p:nvPr/>
          </p:nvPicPr>
          <p:blipFill>
            <a:blip r:embed="rId9"/>
            <a:stretch/>
          </p:blipFill>
          <p:spPr>
            <a:xfrm>
              <a:off x="1636560" y="3716280"/>
              <a:ext cx="1731960" cy="24498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85" name="Picture 4" descr=""/>
            <p:cNvPicPr/>
            <p:nvPr/>
          </p:nvPicPr>
          <p:blipFill>
            <a:blip r:embed="rId10"/>
            <a:stretch/>
          </p:blipFill>
          <p:spPr>
            <a:xfrm rot="1680600">
              <a:off x="2831760" y="3998520"/>
              <a:ext cx="1782720" cy="25210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86" name="ZoneTexte 22"/>
            <p:cNvSpPr/>
            <p:nvPr/>
          </p:nvSpPr>
          <p:spPr>
            <a:xfrm>
              <a:off x="772920" y="2852640"/>
              <a:ext cx="32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3. Posolo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e 23"/>
          <p:cNvGrpSpPr/>
          <p:nvPr/>
        </p:nvGrpSpPr>
        <p:grpSpPr>
          <a:xfrm>
            <a:off x="4586400" y="1700280"/>
            <a:ext cx="5082480" cy="4193280"/>
            <a:chOff x="4586400" y="1700280"/>
            <a:chExt cx="5082480" cy="4193280"/>
          </a:xfrm>
        </p:grpSpPr>
        <p:sp>
          <p:nvSpPr>
            <p:cNvPr id="88" name="ZoneTexte 24"/>
            <p:cNvSpPr/>
            <p:nvPr/>
          </p:nvSpPr>
          <p:spPr>
            <a:xfrm>
              <a:off x="5197680" y="1700280"/>
              <a:ext cx="32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4. Modalités de 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11"/>
            <a:stretch/>
          </p:blipFill>
          <p:spPr>
            <a:xfrm rot="20620200">
              <a:off x="4906800" y="2982600"/>
              <a:ext cx="1800360" cy="25383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90" name="Picture 6" descr=""/>
            <p:cNvPicPr/>
            <p:nvPr/>
          </p:nvPicPr>
          <p:blipFill>
            <a:blip r:embed="rId12"/>
            <a:stretch/>
          </p:blipFill>
          <p:spPr>
            <a:xfrm>
              <a:off x="6099120" y="2852640"/>
              <a:ext cx="1727280" cy="24591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91" name="Picture 7" descr=""/>
            <p:cNvPicPr/>
            <p:nvPr/>
          </p:nvPicPr>
          <p:blipFill>
            <a:blip r:embed="rId13"/>
            <a:stretch/>
          </p:blipFill>
          <p:spPr>
            <a:xfrm rot="2025000">
              <a:off x="7414920" y="3201840"/>
              <a:ext cx="1728720" cy="24145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  <p:grpSp>
        <p:nvGrpSpPr>
          <p:cNvPr id="92" name="Groupe 28"/>
          <p:cNvGrpSpPr/>
          <p:nvPr/>
        </p:nvGrpSpPr>
        <p:grpSpPr>
          <a:xfrm>
            <a:off x="-26280" y="1989000"/>
            <a:ext cx="5446800" cy="3946320"/>
            <a:chOff x="-26280" y="1989000"/>
            <a:chExt cx="5446800" cy="3946320"/>
          </a:xfrm>
        </p:grpSpPr>
        <p:sp>
          <p:nvSpPr>
            <p:cNvPr id="93" name="ZoneTexte 29"/>
            <p:cNvSpPr/>
            <p:nvPr/>
          </p:nvSpPr>
          <p:spPr>
            <a:xfrm>
              <a:off x="1017360" y="1989000"/>
              <a:ext cx="32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5. Effets secondai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8" descr=""/>
            <p:cNvPicPr/>
            <p:nvPr/>
          </p:nvPicPr>
          <p:blipFill>
            <a:blip r:embed="rId14"/>
            <a:stretch/>
          </p:blipFill>
          <p:spPr>
            <a:xfrm rot="20463600">
              <a:off x="323640" y="2997000"/>
              <a:ext cx="1738080" cy="24480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95" name="Picture 9" descr=""/>
            <p:cNvPicPr/>
            <p:nvPr/>
          </p:nvPicPr>
          <p:blipFill>
            <a:blip r:embed="rId15"/>
            <a:stretch/>
          </p:blipFill>
          <p:spPr>
            <a:xfrm>
              <a:off x="1809720" y="2852640"/>
              <a:ext cx="1739880" cy="24480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96" name="Picture 10" descr=""/>
            <p:cNvPicPr/>
            <p:nvPr/>
          </p:nvPicPr>
          <p:blipFill>
            <a:blip r:embed="rId16"/>
            <a:stretch/>
          </p:blipFill>
          <p:spPr>
            <a:xfrm rot="1590600">
              <a:off x="3146760" y="3120480"/>
              <a:ext cx="1800000" cy="25466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  <p:grpSp>
        <p:nvGrpSpPr>
          <p:cNvPr id="97" name="Groupe 33"/>
          <p:cNvGrpSpPr/>
          <p:nvPr/>
        </p:nvGrpSpPr>
        <p:grpSpPr>
          <a:xfrm>
            <a:off x="4331880" y="2637000"/>
            <a:ext cx="5303160" cy="4198680"/>
            <a:chOff x="4331880" y="2637000"/>
            <a:chExt cx="5303160" cy="4198680"/>
          </a:xfrm>
        </p:grpSpPr>
        <p:sp>
          <p:nvSpPr>
            <p:cNvPr id="98" name="ZoneTexte 34"/>
            <p:cNvSpPr/>
            <p:nvPr/>
          </p:nvSpPr>
          <p:spPr>
            <a:xfrm>
              <a:off x="5087160" y="2637000"/>
              <a:ext cx="32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6. Conduites à ten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1" descr=""/>
            <p:cNvPicPr/>
            <p:nvPr/>
          </p:nvPicPr>
          <p:blipFill>
            <a:blip r:embed="rId17"/>
            <a:stretch/>
          </p:blipFill>
          <p:spPr>
            <a:xfrm rot="20407200">
              <a:off x="4697280" y="3865320"/>
              <a:ext cx="1728720" cy="24526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00" name="Picture 12" descr=""/>
            <p:cNvPicPr/>
            <p:nvPr/>
          </p:nvPicPr>
          <p:blipFill>
            <a:blip r:embed="rId18"/>
            <a:stretch/>
          </p:blipFill>
          <p:spPr>
            <a:xfrm>
              <a:off x="5987880" y="3716280"/>
              <a:ext cx="1800360" cy="25318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01" name="Picture 13" descr=""/>
            <p:cNvPicPr/>
            <p:nvPr/>
          </p:nvPicPr>
          <p:blipFill>
            <a:blip r:embed="rId19"/>
            <a:stretch/>
          </p:blipFill>
          <p:spPr>
            <a:xfrm rot="1784400">
              <a:off x="7414920" y="4129200"/>
              <a:ext cx="1728720" cy="24382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b40202"/>
                </a:solidFill>
                <a:latin typeface="Arial"/>
              </a:rPr>
              <a:t>But du j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3640" y="2492280"/>
            <a:ext cx="83055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onstruire une situation de pr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ou des cartes sont posées au centre du jeu et constituent le thème de la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joueurs doivent compléter la situation à l’aide des cartes qu’ils ont en 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remier qui n’a plus de cartes, a gag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1368360" cy="197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-360" y="1700280"/>
            <a:ext cx="59403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fond-bandeau-haut-oral-1600-2"/>
          <p:cNvPicPr/>
          <p:nvPr/>
        </p:nvPicPr>
        <p:blipFill>
          <a:blip r:embed="rId2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b40202"/>
                </a:solidFill>
                <a:latin typeface="Arial"/>
              </a:rPr>
              <a:t>But du je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construire une situation de pr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6156360" y="4292640"/>
            <a:ext cx="1368360" cy="181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5" name="Picture 2" descr="C:\Users\solthis\Desktop\Jeux de carte\IMG_0269.JPG"/>
          <p:cNvPicPr/>
          <p:nvPr/>
        </p:nvPicPr>
        <p:blipFill>
          <a:blip r:embed="rId4"/>
          <a:stretch/>
        </p:blipFill>
        <p:spPr>
          <a:xfrm>
            <a:off x="0" y="1700280"/>
            <a:ext cx="5856120" cy="4392720"/>
          </a:xfrm>
          <a:prstGeom prst="rect">
            <a:avLst/>
          </a:prstGeom>
          <a:ln w="0">
            <a:noFill/>
          </a:ln>
        </p:spPr>
      </p:pic>
      <p:sp>
        <p:nvSpPr>
          <p:cNvPr id="116" name="Flèche droite 9"/>
          <p:cNvSpPr/>
          <p:nvPr/>
        </p:nvSpPr>
        <p:spPr>
          <a:xfrm rot="20659800">
            <a:off x="826920" y="4220640"/>
            <a:ext cx="865440" cy="287640"/>
          </a:xfrm>
          <a:prstGeom prst="rightArrow">
            <a:avLst>
              <a:gd name="adj1" fmla="val 50000"/>
              <a:gd name="adj2" fmla="val 5014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lèche droite 10"/>
          <p:cNvSpPr/>
          <p:nvPr/>
        </p:nvSpPr>
        <p:spPr>
          <a:xfrm rot="13205400">
            <a:off x="2906640" y="3025440"/>
            <a:ext cx="865440" cy="287280"/>
          </a:xfrm>
          <a:prstGeom prst="rightArrow">
            <a:avLst>
              <a:gd name="adj1" fmla="val 50000"/>
              <a:gd name="adj2" fmla="val 5020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èche droite 11"/>
          <p:cNvSpPr/>
          <p:nvPr/>
        </p:nvSpPr>
        <p:spPr>
          <a:xfrm rot="15873000">
            <a:off x="2867040" y="4835160"/>
            <a:ext cx="863640" cy="289080"/>
          </a:xfrm>
          <a:prstGeom prst="rightArrow">
            <a:avLst>
              <a:gd name="adj1" fmla="val 50000"/>
              <a:gd name="adj2" fmla="val 4979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lèche droite 12"/>
          <p:cNvSpPr/>
          <p:nvPr/>
        </p:nvSpPr>
        <p:spPr>
          <a:xfrm rot="8682600">
            <a:off x="2631240" y="3724200"/>
            <a:ext cx="863640" cy="28728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artie: 1 catégorie: apprentissage des noms des molé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s suivan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gmentation progressive du nombre de catégories  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b4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gmentation du nombre d’éléments au sein d’une catég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les apprenants plus avancés dans l’apprentissage: varier les angles d’entr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b4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onction de la complexité, sessions de 30 min à 1h, réparties sur plusieurs j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Adaptation aux profils des appre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aîtr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nom des ARV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la correspondance avec les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quer les schémas thérapeutiques selon un ou plusieur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itères de prise en char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i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quer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sologi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alités de pris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s A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aître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ffets secondaires des A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er la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avité d’un effet second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mettre en œuvre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duites à tenir face aux effets secondair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s A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escrire les thérapeutiques ARV en adéquation avec l’état clinique des patients VIH et maîtriser leurs effets second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40202"/>
              </a:buClr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Objectifs pédagogiques progress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98108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8b23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4640" rIns="494640" tIns="247320" bIns="247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fond-bandeau-haut-oral-1600-2"/>
          <p:cNvPicPr/>
          <p:nvPr/>
        </p:nvPicPr>
        <p:blipFill>
          <a:blip r:embed="rId1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Pour qui ?</a:t>
            </a:r>
            <a:br>
              <a:rPr sz="3200"/>
            </a:br>
            <a:r>
              <a:rPr b="1" lang="fr-FR" sz="3200" spc="-1" strike="noStrike">
                <a:solidFill>
                  <a:srgbClr val="b40202"/>
                </a:solidFill>
                <a:latin typeface="Arial"/>
              </a:rPr>
              <a:t>Pour quo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0" y="2060640"/>
            <a:ext cx="4140360" cy="3751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éde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armaci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pens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ge-fe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i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ducateur thérapeu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de-so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t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5076720" y="2548080"/>
            <a:ext cx="4067280" cy="280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scription des ARV - adultes et 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pensation des A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stion des A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scription des ARV - PT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ducation thérapeu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ment à l’obser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avec flèche vers la droite 9"/>
          <p:cNvSpPr/>
          <p:nvPr/>
        </p:nvSpPr>
        <p:spPr>
          <a:xfrm>
            <a:off x="4140360" y="3502080"/>
            <a:ext cx="914400" cy="914400"/>
          </a:xfrm>
          <a:prstGeom prst="rightArrowCallout">
            <a:avLst>
              <a:gd name="adj1" fmla="val 25002"/>
              <a:gd name="adj2" fmla="val 25000"/>
              <a:gd name="adj3" fmla="val 24995"/>
              <a:gd name="adj4" fmla="val 6497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0:14:58Z</dcterms:created>
  <dc:creator>magali.mevellec</dc:creator>
  <dc:description/>
  <dc:language>en-US</dc:language>
  <cp:lastModifiedBy>SOLTHIS</cp:lastModifiedBy>
  <dcterms:modified xsi:type="dcterms:W3CDTF">2012-03-27T07:20:48Z</dcterms:modified>
  <cp:revision>66</cp:revision>
  <dc:subject>Modèle de présentation orale pour Solthis</dc:subject>
  <dc:title>Diapositive 1</dc:title>
</cp:coreProperties>
</file>